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3F05-D6EE-4AB5-BE71-FFB498C5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10F-FB5C-4801-BD73-A0D9024C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ECF-8248-4ABA-B43E-D31249D5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385-E627-48F9-BF17-DE558B90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DE39-7F88-478A-B290-1C8D6182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06E0-D126-4C78-A989-BABFBB22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A249-BFE0-4BF8-A7F3-7AC9C1F0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4618-01F6-47A2-83A5-1DBBA21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6565-F15B-4988-B336-753C35E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B6B2-C9DC-4700-BFD1-E853A1B7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8E8-6529-4D85-B7A5-06499B6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282-A9B7-4C02-8ABA-C3E6058D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8C74-E995-454D-835B-82793A8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EAE4-0DFE-42AF-81EC-D2F018BD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E610-13BD-49DF-8173-6A966A0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B246-6B7A-44DE-A294-820C71DC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31E3-44EE-4B67-A5CD-FFF37C17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68F-DBAC-42E0-BB04-5E0BAE88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CF3-C26A-4D6E-A41C-14D197D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7E6-0C0E-44A9-9348-FE086F32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975-A3FF-4351-8C07-1FB863DA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7F8-615B-43CE-8CC5-E9AB6434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65B-81F3-4CCF-BA2F-CDB27D0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C76-B0E7-47CF-A12B-D61243C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F17-1F1D-4049-A6A8-BB89BED076E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B913-5505-459F-ADEC-0B12EB054C6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1828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6666"/>
                </a:solidFill>
                <a:latin typeface="Verdana"/>
              </a:rPr>
              <a:t>Sistemas sanitarios</a:t>
            </a:r>
            <a:br>
              <a:rPr sz="4300"/>
            </a:br>
            <a:r>
              <a:rPr b="1" lang="es-ES" sz="4300" spc="-1" strike="noStrike">
                <a:solidFill>
                  <a:srgbClr val="006666"/>
                </a:solidFill>
                <a:latin typeface="Verdana"/>
              </a:rPr>
              <a:t>español y rumano</a:t>
            </a:r>
            <a:r>
              <a:rPr b="1" lang="ro-RO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Verdana"/>
              </a:rPr>
              <a:t>Bianca Vitalaru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944720" cy="83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42920" y="4735440"/>
            <a:ext cx="24494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Verdana"/>
              </a:rPr>
              <a:t>Legislació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 rige por un modelo de servicio público nacional, financiado por los impuestos de todos y al que todos los habitantes tienen acces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Ley 145/1997: modelo de seguridad social tipo Bismark, contribución obligatoria al Sistema de Seguridad Social, solidarid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istema descentralizado (art. 63 – Legea nr. 145/1997)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Instituto Nacional de la Seguridad Social (Casa Naţionalặ de Asigurặri de Sặnặtat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asas provinciales de seguridad social (Case judeţene de Asigurặri de Sặnặtate) instituciones públicas autónomas, dirigidas por representantes de los asegurados y de los patronatos a través de consejos de administració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Gestión y administración de los fondos; utilización del  96% para cubrir el pago de servicios médicos, medicamentos, material y equipamiento sanitario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Oficinas territorial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aracterística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Ley 145/2002 sobre la Seguridad Social : primera normativa que presenta los principios de este sistema y presenta sus características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istema unitario de protección social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elección del médico de cabecera, del centro de salud y de la casa de seguridad social por el usuario/paciente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delimitación y reglamentación del paquete de servicios médicos financiados por contribuciones y subvenciones del Estado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equilibrio económico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descentralización del sistema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olidaridad y subsidio en recogida y utilización de fondo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accesibilidad en la prestación de servicios médicos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Sistema de Seguridad Social: 3 componentes fundamentale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asegurado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proveedores de servicios (médicos, hospitales, farmacias, etc.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casas de seguridad social</a:t>
            </a:r>
            <a:br>
              <a:rPr sz="1400"/>
            </a:b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6699"/>
                </a:solidFill>
                <a:latin typeface="Verdana"/>
              </a:rPr>
              <a:t>O.U.G. nr. 150/2002: creación del Fondo Nacional Único de Seguridad Social (Fond naţional unic de asigurặri sociale de sặnặtate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Verdana"/>
              </a:rPr>
              <a:t>Organización del sistema sanitario ruman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istema público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guridad Social: principal sistema de financiación de la protección de la salud y se basa en la prestación de un paquete de servicios fundamentales y obligatorios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Asegurados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iudadanos rumanos con domicilio estable en Rumaní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extranjeros y apatridas con residencia temporal o permanente, afiliados a la Seguridad Socia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D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iferentes categorias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: p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ueden beneficiarse del seguro médico sin haber contribuído a la seguridad social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entros sanitarios y acceso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Tipos de centros sanitario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Atención primari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entros de salud (Centre de sặnặtate</a:t>
            </a:r>
            <a:r>
              <a:rPr b="0" lang="es-ES" sz="2000" spc="-1" strike="noStrike">
                <a:solidFill>
                  <a:srgbClr val="006699"/>
                </a:solidFill>
                <a:latin typeface="Verdana"/>
              </a:rPr>
              <a:t>, dispensare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Atención Especializada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Hospitales ( Spitale), ambulatorios (policlinici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Centros médicos (Centre medicale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Vías de acceso al sistema sanitario rumano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Tarjeta Sanitaria (Carnet de Sặnặtat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Tarjeta Sanitaria Europea (Card Sanitar European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Reconoce el derecho a recibir las prestaciones sanitarias en las mismas condiciones que los nacionales durantes una estancia temporal en cualquiera de los países de la UE, del Espacio Económico Europeo y de Suiza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66"/>
                </a:solidFill>
                <a:latin typeface="Verdana"/>
              </a:rPr>
              <a:t>Característica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Médico de cabecera (Medic de familie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la asistencia primaria se realiza sólo a través del médico de cabecera al que se le debe aportar prueba de la contribución al Fondo Nacional Único de Seguridad Social (Fond naţional unic de asigurặri sociale de sặnặtate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atención especializada: los pacientes han de ser remitidos por el médico de cabecera al especialista o, según el caso, directamente ingresados en el hospita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el médico especialista también puede recomendar el ingreso en el hospital</a:t>
            </a:r>
            <a:br>
              <a:rPr sz="1800"/>
            </a:b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estomatología: las unidades acreditadas que tienen relaciones contractuales con la Seguridad Social.</a:t>
            </a:r>
            <a:br>
              <a:rPr sz="1800"/>
            </a:br>
            <a:r>
              <a:rPr b="0" lang="ro-RO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Urgencias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cualquier médico de cualquier centro, sin ningún tipo de documentación, aunque se recomienda acudir primero al médico de cabecera  (en persona o por teléfono)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Recetas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para medicamentos a bajo coste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 o gratuit</a:t>
            </a: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o</a:t>
            </a:r>
            <a:r>
              <a:rPr b="0" lang="ro-RO" sz="2400" spc="-1" strike="noStrike">
                <a:solidFill>
                  <a:srgbClr val="006699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médicos que tengan relaciones contractuales con la seguridad social</a:t>
            </a:r>
            <a:br>
              <a:rPr sz="2400"/>
            </a:br>
            <a:r>
              <a:rPr b="1" lang="ro-RO" sz="2400" spc="-1" strike="noStrike">
                <a:solidFill>
                  <a:srgbClr val="006699"/>
                </a:solidFill>
                <a:latin typeface="Verdana"/>
              </a:rPr>
              <a:t>listas de medicamentos aprobadas por el Gobierno</a:t>
            </a:r>
            <a:br>
              <a:rPr sz="2400"/>
            </a:b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99"/>
                </a:solidFill>
                <a:latin typeface="Verdana"/>
              </a:rPr>
              <a:t>Atención al paciente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99"/>
                </a:solidFill>
                <a:latin typeface="Verdana"/>
              </a:rPr>
              <a:t>médico de cabecera: sin cita previa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6666"/>
                </a:solidFill>
                <a:latin typeface="Verdana"/>
              </a:rPr>
              <a:t>Sistema privado de salud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Ley 212/ 2004 sobre seguros privados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istema opcional y suplimentario al sistema público de salu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Se basa en el principio de la mutualid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3 tipos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 de seguros médicos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complementari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– cubre totalmente o parcialmente gastos generados por prestaciones médicas no cubiertas por la seguridad social en su paquete de servicios „básicos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uplementari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- cubre totalmente o parcialmente gastos para obtener prestaciones más rápidas o diferentes (acceso rápido a servicios médicos, listas de espera, servicios médicos en otros países, etc</a:t>
            </a:r>
            <a:r>
              <a:rPr b="0" lang="es-ES_tradnl" sz="20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99"/>
                </a:solidFill>
                <a:latin typeface="Verdana"/>
              </a:rPr>
              <a:t>substitutivo</a:t>
            </a:r>
            <a:r>
              <a:rPr b="0" lang="ro-RO" sz="2000" spc="-1" strike="noStrike">
                <a:solidFill>
                  <a:srgbClr val="006699"/>
                </a:solidFill>
                <a:latin typeface="Verdana"/>
              </a:rPr>
              <a:t> - cubre totalmente o parcialmente gastos para cualquier tipo de prestaciones médica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355608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360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istema sanitario español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scripción general y financiació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istencia hospitalaria y médica gratuit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dos los trabajadores deben afiliarse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da trabajador paga una cuota mensual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debe solicitar una Tarjeta Sanitaria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emás se pueden contratar seguros privad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escripción general y financiació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s Comunidades Autónomas han asumido las competencias sobre la sanidad (Consejerías de Educación, Servicios Regionales de Salud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l Sistema Nacional de Salud (INGESA) es garante de las prestacion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ervici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DAS las personas tienen derecha a la asistencia sanitaria a través del Sistema Nacional de Salu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tención Primari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rgenci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specialistas (el médico de familia envía al paciente al especialist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xisten convenios para servicios especiales (optometría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xtranjero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Todos los trabajadores extranjeros deben contribuir a la Seguridad So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a Seguridad Social cubre asistencia sanitaria para ellos y sus familia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a tarjeta sanitaria puede solicitarse en el centro de salud más próximo presentando volante de empadronamient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99"/>
                </a:solidFill>
                <a:latin typeface="Verdana"/>
              </a:rPr>
              <a:t>Los ciudadanos de la UE tienen derecho automáticamente a asistencia sanitaria gratuita (European Health Insurance Card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rgencia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Verdana"/>
              </a:rPr>
              <a:t>La ley garantiza la atención de urgencia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TÍTULO I. DERECHOS Y LIBERTADES DE LOS EXTRANJERO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CAPÍTULO I. DERECHOS Y LIBERTADES DE LOS EXTRANJERO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Artículo 12.</a:t>
            </a:r>
            <a:r>
              <a:rPr b="0" lang="es-ES" sz="1600" spc="-1" strike="noStrike">
                <a:solidFill>
                  <a:srgbClr val="006699"/>
                </a:solidFill>
                <a:latin typeface="Verdana"/>
              </a:rPr>
              <a:t> Derecho a la asistencia sanitaria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1. Los extranjeros que se encuentren en España inscritos en el padrón del municipio en el que residan habitualmente, tienen derecho a la asistencia sanitaria en las mismas condiciones que los españole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2. Los extranjeros que se encuentren en España tienen derecho a la asistencia sanitaria pública de urgencia ante la contracción de enfermedades graves o accidentes, cualquiera que sea su causa, y a la continuidad de dicha atención hasta la situación de alta médica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3. Los extranjeros menores de dieciocho años que se encuentren en España tienen derecho a la asistencia sanitaria en las mismas condiciones que los españoles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006699"/>
                </a:solidFill>
                <a:latin typeface="Verdana"/>
              </a:rPr>
              <a:t>4. Las extranjeras embarazadas que se encuentren en España tendrán derecho a la asistencia sanitaria durante el embarazo, parto y posparto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Farmacia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encuentran fuera de los hospitales y los centros de salu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 turnan para ofrecer un servicio fuera del horario comercia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ay medicamentos que se pueden adquirir sin recetas. Para otros es obligatori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esentando una receta, los medicamentos salen más bara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s farmacéuticos pueden aconsejar a sus clientes sobre tratamientos para dolencias comun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6666"/>
                </a:solidFill>
                <a:latin typeface="Verdana"/>
              </a:rPr>
              <a:t>Sistema Sanitario rumano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18:11Z</dcterms:created>
  <dc:creator>USUARIO</dc:creator>
  <dc:description/>
  <dc:language>en-US</dc:language>
  <cp:lastModifiedBy>USUARIO</cp:lastModifiedBy>
  <dcterms:modified xsi:type="dcterms:W3CDTF">2010-11-04T14:14:29Z</dcterms:modified>
  <cp:revision>2</cp:revision>
  <dc:subject/>
  <dc:title>Sistemas sanitarios español y rumano </dc:title>
</cp:coreProperties>
</file>